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D311-AE1A-4CA1-8133-511A517AE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A97F-1917-4C5C-8859-B1A2BA191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4D57-17B5-4E0C-A2A5-CDB867C79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3B2D-61A7-4BB3-B351-BEEB60887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8957-502A-40D4-BD3D-D4A1E02A7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E6A3-FA8F-444D-9798-D0C12CAE4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77FB-A438-4EDC-A938-4ABB52514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F04A-663E-437F-B349-375C6A44C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ABA8-49EB-4D70-B89E-76E094FDF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311A-1C82-46C9-A8E6-D22964B2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46E9-66E3-4CB2-BA65-0E12FC09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6C24-DCF0-4466-93A0-176AF429D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FCB2D-D41B-439E-A37B-85DF3721D3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laina Dent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40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period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Multime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VOCABULARY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0" y="914400"/>
            <a:ext cx="883908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66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000000"/>
                    </a:gs>
                    <a:gs pos="100000">
                      <a:srgbClr val="ff0000"/>
                    </a:gs>
                  </a:gsLst>
                  <a:lin ang="81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E END</a:t>
            </a:r>
            <a:endParaRPr b="1" i="1" lang="en-US" sz="1800" spc="1" strike="noStrike">
              <a:ln w="9360">
                <a:solidFill>
                  <a:srgbClr val="ff0066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000000"/>
                  </a:gs>
                  <a:gs pos="100000">
                    <a:srgbClr val="ff0000"/>
                  </a:gs>
                </a:gsLst>
                <a:lin ang="81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advTm="0">
    <p:pull dir="ru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2" dur="250" autoRev="1" fill="hold"/>
                                        <p:tgtEl>
                                          <p:spTgt spid="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path" presetID="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67 0 L 0.21 0.22241 L -0.04 0.22241 L 0 0 Z">
                                      <p:cBhvr>
                                        <p:cTn id="165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-mail-Electronic mail which allows individuals with an account to send messages to another person with an E-mail acc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C- internet relay chat was developed in 1988 by Jarkko Oikarinen and allows instant online communicating with someone else who is also online by typing messages back and for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BS-Bulletin board service allows user to participate in a discussion gro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comb dir="vert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- Hypertext transfer protocol is used for handling the transmission of pages between a web server and a web brows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TP- File transfer protocol is used to rapidly transfer fi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NET-A program used on networks such as the internet to allow users to remotely log on to a server on the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checker dir="horz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8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GOPHER-One of the first widespread internet browsing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INTRANET-A network used by a single organization and only accessible by authorized us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FIREWALL-A network security system that prevents unauthorized network acce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zoom dir="in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000"/>
                            </p:stCondLst>
                            <p:childTnLst>
                              <p:par>
                                <p:cTn id="6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Arial"/>
              </a:rPr>
              <a:t>EXTRANET-An extended intranet that provides various level of access to authorized members of the publ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Arial"/>
              </a:rPr>
              <a:t>ONLINE PROFILING-A marketing technique that collects online data about consum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Arial"/>
              </a:rPr>
              <a:t>COOKIES- Small files that contain information about the websites an individual has visi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split dir="out" orient="ver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3333cc"/>
            </a:gs>
            <a:gs pos="100000">
              <a:srgbClr val="008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SENET-A collection  of servers that offer netnew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ANDWIDTH- The amount of data and the speed at which the data can travel over the transmission med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ENT- A computer that accesses a server to request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wheel spokes="8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0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4000"/>
                            </p:stCondLst>
                            <p:childTnLst>
                              <p:par>
                                <p:cTn id="9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8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cc"/>
            </a:gs>
            <a:gs pos="50000">
              <a:srgbClr val="660066"/>
            </a:gs>
            <a:gs pos="100000">
              <a:srgbClr val="cc00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SL- Digital subscriber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hernet- A widely used protocol for lans that uses a bus or star topology and connects the network devices  by twisted-pair wiring, coaxail cable, or fiber optic c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IQUETTE-The etiiquette that should be followed when using a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plus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PROTOCOL-A stand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TOPOLOGY- The logical arrangment of the nodes on a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WIRELESS NETWORKS- Atype of network that does not require the use of cab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wedg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9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9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9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 INTERFACE CARD-A circuit board that goes into the base unit of a computer or other deviice in a 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P- Internet service provider is a company that offers access to the internet for a f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 SITE- A series of related web p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blinds dir="horz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2" dur="2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4000"/>
                            </p:stCondLst>
                            <p:childTnLst>
                              <p:par>
                                <p:cTn id="15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5" dur="2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15:36:15Z</dcterms:created>
  <dc:creator>765892</dc:creator>
  <dc:description/>
  <dc:language>en-US</dc:language>
  <cp:lastModifiedBy>765892</cp:lastModifiedBy>
  <dcterms:modified xsi:type="dcterms:W3CDTF">2009-04-16T15:47:49Z</dcterms:modified>
  <cp:revision>3</cp:revision>
  <dc:subject/>
  <dc:title>Elaina Dent 4th period Multimedia</dc:title>
</cp:coreProperties>
</file>